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A1E-666D-4E8F-8BBE-AAE5B368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17E-B073-474B-A7ED-76B4D647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809-9598-482D-B18B-93C23F3D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CBF-A523-4C2B-9BF9-5EE7836A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4A28-8A8D-40CA-A2C7-A8D6FDCE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255-0F0F-4A05-9C14-CA436F8E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E344-B89C-41A2-A1A4-5AD37EF0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554-ACDA-4BE6-9AF6-6F94C7A4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2E94-6740-4E32-B4FA-622991B3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A47-1D8C-4179-8143-60DC4F20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97B-36DC-4BDA-991F-99FE19E2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554-1841-469E-A650-11E40C37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B8A6-43F0-4ABF-B7D2-EF6C0362BF85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CF45-D7F0-4F07-BF15-28AB9A989A7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google.com/imgres?imgurl=http://www.tk-online.de/rochelexikon/pics/a06465.004-1_big.jpg&amp;imgrefurl=http://www.tk-online.de/rochelexikon/pics/p06465.004-1.html&amp;usg=__G8ftMXOdjvTpKe8iNhPi409EpKM=&amp;h=287&amp;w=400&amp;sz=39&amp;hl=sr&amp;start=47&amp;itbs=1&amp;tbnid=L6b0kQb9DMjQAM:&amp;tbnh=89&amp;tbnw=124&amp;prev=/images%3Fq%3Dcontusio%26start%3D36%26hl%3Dsr%26sa%3DN%26gbv%3D2%26ndsp%3D18%26tbs%3Disch: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tetoskop.info/pics/0/820/thumbnails/150x150/epiduralni.jpg&amp;imgrefurl=http://www.stetoskop.info/Epiduralni-hematom-820-c39-sickness.htm&amp;usg=__gj6tchsA4U-5Uts3m5zMk62SvIM=&amp;h=135&amp;w=150&amp;sz=8&amp;hl=sr&amp;start=3&amp;itbs=1&amp;tbnid=LS9V_eKJk7sI4M:&amp;tbnh=86&amp;tbnw=96&amp;prev=/images%3Fq%3Depidurani%2Bhematom%26hl%3Dsr%26sa%3DG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emlib.cz/web/obrazky/1_33_12_57_37_ostatni/epiduralni_hematom.jpg&amp;imgrefurl=http://www.nemlib.cz/web/index.php%3Fmenu%3D1_33_12_57_37&amp;usg=__s3nn_4bTws5qMT_0dt961SIuT54=&amp;h=200&amp;w=200&amp;sz=52&amp;hl=sr&amp;start=9&amp;itbs=1&amp;tbnid=2rzgkyYap1m6bM:&amp;tbnh=104&amp;tbnw=104&amp;prev=/images%3Fq%3Depidurani%2Bhematom%26hl%3Dsr%26sa%3DG%26gbv%3D2%26tbs%3Disch: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eurohirurgija.in.rs/new_page_3_files/image008.jpg&amp;imgrefurl=http://www.neurohirurgija.in.rs/new_page_3.htm&amp;usg=__fcgQ8jxYzDE-e0r0KLoX_3gKfIk=&amp;h=320&amp;w=320&amp;sz=12&amp;hl=sr&amp;start=1&amp;itbs=1&amp;tbnid=dcR7On7llAnlEM:&amp;tbnh=118&amp;tbnw=118&amp;prev=/images%3Fq%3Dsubdurani%2Bhematom%26hl%3Dsr%26sa%3DG%26gbv%3D2%26tbs%3Disch: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imaios.com/var/ezwebin_site/storage/images/clinical-cases/exambank/emergency/thoracic-injuries-subcapsular-hemorrhage-of-liver-pelvic-injury/crane/2426860-1-eng-GB/crane_medium.jpg&amp;imgrefurl=http://www.imaios.com/en/Clinical-cases/Exambank/Emergency/Thoracic-Injuries-Subcapsular-hemorrhage-of-liver-Pelvic-injury&amp;usg=__zWoNOxLW8UVbFwH_WF3UpKzrSUA=&amp;h=166&amp;w=200&amp;sz=9&amp;hl=sr&amp;start=55&amp;itbs=1&amp;tbnid=D1BnPh82baMb-M:&amp;tbnh=86&amp;tbnw=104&amp;prev=/images%3Fq%3Dfractura%2Bcranii%26start%3D54%26hl%3Dsr%26sa%3DN%26gbv%3D2%26ndsp%3D18%26tbs%3Disch: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raniocerebralne povred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br>
              <a:rPr sz="4000"/>
            </a:b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Svetlana Miletic Drakulic, Ph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571720"/>
            <a:ext cx="6400800" cy="66600"/>
          </a:xfrm>
          <a:prstGeom prst="rect">
            <a:avLst/>
          </a:prstGeom>
          <a:noFill/>
          <a:ln w="0">
            <a:noFill/>
          </a:ln>
        </p:spPr>
        <p:txBody>
          <a:bodyPr tIns="20880" bIns="2088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Calibri"/>
              </a:rPr>
              <a:t>ac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0005-9F7A-4994-AC86-F362C057E231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D504-0A78-4556-946E-5E2B066CB88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motio cerebri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Cerebral Concus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2560" y="198108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al disorder of the brain 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ussion,meaning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versible traumatic paralysis of nervous function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lways immediate (not delayed even by second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s of concussion on brain function may last for a variable time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econds, minutes, hours, or long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ression of reflexes (falling to the ground if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ing), transient arrest of respiration, a brief period of bradycardia,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fall in blood pressure     (vital and vegetative centers)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nesia (memoriz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lysis of limbs, swallowing, brainstem reflexes (pyramidal pathway, KN nucle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29E9-BA7B-4011-B097-FAEF5DB46F39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5E59-F752-40CB-8B0A-156DB76ED80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chanism of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l on the s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dden jerk of the head (jerk bica) - the medullary part of the impact in dens epistrop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low to the head (the direction of the force passes through the brainst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dden change in the momentum of the head; either movement is imparted to the stationary head by a blow or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ement of the head is arrested by a hard, unyielding surfa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two types of blunt (nonpenetrating) head injury are call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celerative and decelerative, respective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DF32-E3AC-40E6-A07C-D695E8005A2E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D719-67D5-4F51-85BE-FD6AB14360C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ANd9GcRKoRW0YPY_aZDau6UTN4NPC0Y5W781x5ZmjBS42Yha5YoargXhug"/>
          <p:cNvPicPr/>
          <p:nvPr/>
        </p:nvPicPr>
        <p:blipFill>
          <a:blip r:embed="rId1"/>
          <a:stretch/>
        </p:blipFill>
        <p:spPr>
          <a:xfrm>
            <a:off x="5616720" y="0"/>
            <a:ext cx="3527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ces cause axons to stretch or t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turbance of consciousness for less than 6 hours = comotio cerebr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the disorder lasts longer than 6 hours, we are talking about diffuse axonal damage (DAO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generation of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rve fibers that had been stretched or torn by the shear stresses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t up during rotational acceleration of the head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diffuse axonal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njury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examin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F3C6-CAB4-41D2-A457-0284CD3FF106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1407-0BED-4EBA-839E-6D357CE9EF5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17524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09480" y="2743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9"/>
          <p:cNvCxnSpPr>
            <a:stCxn id="98" idx="0"/>
            <a:endCxn id="98" idx="0"/>
          </p:cNvCxnSpPr>
          <p:nvPr/>
        </p:nvCxnSpPr>
        <p:spPr>
          <a:xfrm>
            <a:off x="609120" y="2742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AutoShape 10"/>
          <p:cNvSpPr/>
          <p:nvPr/>
        </p:nvSpPr>
        <p:spPr>
          <a:xfrm>
            <a:off x="3429000" y="2819520"/>
            <a:ext cx="4856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48769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3352680" y="2278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429000" y="1828800"/>
            <a:ext cx="23670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s of consciousn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0" y="3089160"/>
            <a:ext cx="327672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rograde amnes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562720" y="3200400"/>
            <a:ext cx="358128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erograde amnes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09480" y="5021280"/>
            <a:ext cx="80010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usea, vomiting, fluctuating blood pressure, tremors, headache, feeling cold, hot, weakness, apat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895480" y="6248520"/>
            <a:ext cx="46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data from other pers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jury severity according to anterograde amnesia and coma 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0207-5440-423C-831B-ED3842C62193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AD5A-AC18-4AE4-B9C4-EF938C17994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14240" y="2857680"/>
            <a:ext cx="3733920" cy="378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or Injury 75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nterograde amnesia up to 24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Impairment of consciousness for up to 20 minu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GSK 13-1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bsence of CT findi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714920" y="2928960"/>
            <a:ext cx="4114800" cy="3416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ious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anterograde amnesia over 24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oma for more than 6 hou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GSC less than 1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CT (organic brain damag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use axonal dam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a for over 6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and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M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sults were nor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e axon damage by tearing and stretching (pons, midbrain, c. calosuma, c. inter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sequences are either a vegetative state or a disorder of attention and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448B-A7F8-4475-99F1-708E102C855A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EF20-12B0-42DB-84C9-0BF98CB8E5E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 ed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after any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 not correlate with the severity of the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usually develops after 24 to 48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 are especially pr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B91C-850C-4F04-B6A9-C546EBDC5D8C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0032-1926-4F91-A4EC-585F800035A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tusio cerebr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contusions </a:t>
            </a:r>
            <a:r>
              <a:rPr b="0" i="1" lang="sr-Latn-RS" sz="4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chanism of inju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Impact of an object on the skull that is at 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ntusion at the point of impac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by the impact of the moving skull on a solid surf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in the place of injury and positive pressure, a smaller contusion focus, on the opposite side, negative pressure, a larger foc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ontre-cou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patients who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ain in coma for more than 24 h after a head injury are found to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e intracerebral hemato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se lesions, the most important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contusions of the surface of the brain beneath the point of impact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up lesion) and the more extensive lacerations and contusions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side opposite the site of impact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recoup lesion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73E1-4CD8-45C4-BFD5-46A7DECC50F1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162B-D8A3-4F41-9013-D2878DDA9F2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8" descr="ANd9GcQ1pOVaZc9SLDWLCD5RBWNj9HqiE0NotZ1mP0_-9zllcu7ooyyw"/>
          <p:cNvPicPr/>
          <p:nvPr/>
        </p:nvPicPr>
        <p:blipFill>
          <a:blip r:embed="rId1"/>
          <a:stretch/>
        </p:blipFill>
        <p:spPr>
          <a:xfrm>
            <a:off x="6143760" y="1071720"/>
            <a:ext cx="266688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142884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effects of bruises, lacerations, hemorrhages, localized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wellings, white matter necroses, and herniations of tissue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t occur 12 to 72 h or more af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On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T scan of the brain - finding of a contusion scar the contusions appear as edematous regions of cortex and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bcortical white matter admixed with areas of increased density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presenting leaked bloo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urological examination-focal outbur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aired consciousness, bradycardia with hyper and then hypotens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56EA-6519-40FE-8EF4-F0C86177E395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603C-5F11-4137-8AD1-215A6AF634CA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brain_injury"/>
          <p:cNvPicPr/>
          <p:nvPr/>
        </p:nvPicPr>
        <p:blipFill>
          <a:blip r:embed="rId2"/>
          <a:stretch/>
        </p:blipFill>
        <p:spPr>
          <a:xfrm>
            <a:off x="1692360" y="1413000"/>
            <a:ext cx="561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iologically, they belong to non-progressive neurological disorders caused by a single effect of an etiological factor (mechanical trau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C6B3-FB64-4FAC-975A-763360E136AC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330D-A17F-4813-AB2E-E877DB89718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87480" y="46080"/>
            <a:ext cx="12189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a0646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628640"/>
            <a:ext cx="4537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98108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arachnoid hemorr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cdural and subdural 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acerebral 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7" descr="1"/>
          <p:cNvPicPr/>
          <p:nvPr/>
        </p:nvPicPr>
        <p:blipFill>
          <a:blip r:embed="rId1"/>
          <a:stretch/>
        </p:blipFill>
        <p:spPr>
          <a:xfrm>
            <a:off x="4284720" y="2421000"/>
            <a:ext cx="39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umatic intracranial ble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ute Epidural Hemorrh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bdural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ronic Subdural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487B-258A-4DF0-8883-A51C31E4FAA3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B77D-08C8-4D83-A61D-C00D40526FB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ute Epidural Hemorrh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arises with a temporal or parietal fracture and laceration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e middle meningeal art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of the temporal and parietal b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oma grows rapidly, compresses brain tissue (Hutchinson's pup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logical signs1h – 24h lucid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increase in intracranial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Focal neurological out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1D9E-C2ED-429E-8937-33A46C4F10B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A5E7-1ED9-4D44-9899-B6FB4B22F1F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pidural hemat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4500360"/>
            <a:ext cx="777240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B115-22D9-4107-8E95-1B169D3FFB3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1216-8E2E-425F-A4B9-83E3055E8B9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iagram 5" descr=""/>
          <p:cNvPicPr/>
          <p:nvPr/>
        </p:nvPicPr>
        <p:blipFill>
          <a:blip r:embed="rId1"/>
          <a:stretch/>
        </p:blipFill>
        <p:spPr>
          <a:xfrm>
            <a:off x="353880" y="208080"/>
            <a:ext cx="6107400" cy="40780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3214800" y="2786040"/>
            <a:ext cx="5786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typical example is that of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hild who has fallen from a bicycle and was unconscious only momentarily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few hours or a day later headache of increasing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rity develops, with vomiting, drowsiness, confusion, aphasia,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izures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hemiparesis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pulse is often slow (below 60 beats per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nute) and bounding, with a concomitant rise in systolic bloo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sure (Cushing effect). The pupil ma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late on the side of th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matom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CT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can reveals a lens-shaped clot with a smooth inner margin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visualization of a fracture line across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groove of the middle meningeal artery and knowledge of which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de of the head was struck (the clot is usually on that side) are o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id in diagnosis and lateralization of the le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epidural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7800" y="-285840"/>
            <a:ext cx="45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934640"/>
            <a:ext cx="32576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clot is n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ved surgically, comes at the end of a comatose period and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ue to respiratory arre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surgical procedure craniotomy, drainage of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matoma, and identification and ligation of the bleeding vess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epiduralni_hem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71960" y="1785960"/>
            <a:ext cx="4896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cute and Chronic Subdur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emato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nous slow bleeding between dura and arachno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hronic subdural hematoma becomes gradually encys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y fibrous membranes (pseudomembranes) that grow from th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u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1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subdural hematoma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, there may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a brief lucid interval between the blow to the head and the adv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com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, more often, the patient is comatose from the time 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jury and the coma deepens progressively. Frequently the acute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dural hematoma is combined with epidural hemorrhage, cerebral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usion, or lacer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5C20-67B6-4C73-8443-340140561355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DB3D-F8D2-48D9-A581-00339969AAF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ontent Placeholder 5" descr=""/>
          <p:cNvPicPr/>
          <p:nvPr/>
        </p:nvPicPr>
        <p:blipFill>
          <a:blip r:embed="rId1"/>
          <a:stretch/>
        </p:blipFill>
        <p:spPr>
          <a:xfrm>
            <a:off x="615960" y="993600"/>
            <a:ext cx="7862760" cy="5108760"/>
          </a:xfrm>
          <a:prstGeom prst="rect">
            <a:avLst/>
          </a:prstGeom>
          <a:ln w="0">
            <a:noFill/>
          </a:ln>
        </p:spPr>
      </p:pic>
      <p:sp>
        <p:nvSpPr>
          <p:cNvPr id="1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CAE4-0728-46ED-960E-C331F81ACE97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FC2C-EED7-47B5-84BE-B315C680DB9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dural hemato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34640"/>
            <a:ext cx="3471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chronic subdural hematoma becomes gradually encyst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y fibrous membranes (pseudomembranes) that grow from th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ura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y somewhat less than one-half of all subdural hematomas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main solid and nonenlarging and the remainder liquefy and then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large is not know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ggest that the volume of the original clot is a critica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actor: the larger its initial size, the more likely it will be to enlar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n inflammatory reaction, triggered by the breakdown products o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lood elements in the clot, appears to be an additional stimulus f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rowth as well as for neomembrane formation and its vasculariz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5429160" y="1428840"/>
            <a:ext cx="335772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ANIOCEREBRAL TRAU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classified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5931-9392-4FFA-BDE2-964BB09152EC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7557-74A2-4D70-9D60-3D90AC7B557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iagram 5" descr=""/>
          <p:cNvPicPr/>
          <p:nvPr/>
        </p:nvPicPr>
        <p:blipFill>
          <a:blip r:embed="rId1"/>
          <a:stretch/>
        </p:blipFill>
        <p:spPr>
          <a:xfrm>
            <a:off x="1504800" y="1816200"/>
            <a:ext cx="6139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934640"/>
            <a:ext cx="3471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most cases of acute hematoma,it is sufficient to place burr holes and evacuate the clotbefore deep coma has develop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ment of larger hematomas,particularly after several hours have passed and the blood has clotted,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wide craniotomy to permit control of the blee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removal of the cl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image0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90920" y="1500120"/>
            <a:ext cx="47530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ute Brain Swelling in Child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934640"/>
            <a:ext cx="2971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s condition is seen in the first hours after injury and may prove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apidly fatal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CT scan shows enlargement of both hemisphere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compression of the basal cisterns and ventricle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 is usually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papilledema in the early stages, during which the child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yperventilates, vomits, and shows extensor posturing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assumption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as been that this represents a loss of regulation of cerebral</a:t>
            </a: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lood flow and a massive increase in the blood volume ofthe brai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5" descr="chronicky_subduralni_hematom"/>
          <p:cNvPicPr/>
          <p:nvPr/>
        </p:nvPicPr>
        <p:blipFill>
          <a:blip r:embed="rId1"/>
          <a:stretch/>
        </p:blipFill>
        <p:spPr>
          <a:xfrm>
            <a:off x="3429000" y="1643040"/>
            <a:ext cx="5327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umatic brain involvement of hern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apment of parts of the brain in the openings of the dura or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ubfal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hrough hiatus tento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hrough the foramen occipitale magn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2AFC-EE2B-45B6-AA9D-6049DA325576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17F4-EAFC-42B3-A427-B165D83FDD0A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Content Placeholder 5" descr=""/>
          <p:cNvPicPr/>
          <p:nvPr/>
        </p:nvPicPr>
        <p:blipFill>
          <a:blip r:embed="rId1"/>
          <a:stretch/>
        </p:blipFill>
        <p:spPr>
          <a:xfrm>
            <a:off x="646200" y="615960"/>
            <a:ext cx="7851600" cy="2316240"/>
          </a:xfrm>
          <a:prstGeom prst="rect">
            <a:avLst/>
          </a:prstGeom>
          <a:ln w="0">
            <a:noFill/>
          </a:ln>
        </p:spPr>
      </p:pic>
      <p:sp>
        <p:nvSpPr>
          <p:cNvPr id="1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9F6B-1C58-40EF-B87D-C41CDD7431DD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8F7F-4377-4B07-BA00-91B7CA435F0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Diagram 6" descr=""/>
          <p:cNvPicPr/>
          <p:nvPr/>
        </p:nvPicPr>
        <p:blipFill>
          <a:blip r:embed="rId2"/>
          <a:stretch/>
        </p:blipFill>
        <p:spPr>
          <a:xfrm>
            <a:off x="281160" y="2206800"/>
            <a:ext cx="8442000" cy="3260520"/>
          </a:xfrm>
          <a:prstGeom prst="rect">
            <a:avLst/>
          </a:prstGeom>
          <a:ln w="0">
            <a:noFill/>
          </a:ln>
        </p:spPr>
      </p:pic>
      <p:pic>
        <p:nvPicPr>
          <p:cNvPr id="184" name="Diagram 7" descr=""/>
          <p:cNvPicPr/>
          <p:nvPr/>
        </p:nvPicPr>
        <p:blipFill>
          <a:blip r:embed="rId3"/>
          <a:stretch/>
        </p:blipFill>
        <p:spPr>
          <a:xfrm>
            <a:off x="493560" y="4780080"/>
            <a:ext cx="815688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250px-Brain_herniation_types-2"/>
          <p:cNvPicPr/>
          <p:nvPr/>
        </p:nvPicPr>
        <p:blipFill>
          <a:blip r:embed="rId2"/>
          <a:stretch/>
        </p:blipFill>
        <p:spPr>
          <a:xfrm>
            <a:off x="1619280" y="1268280"/>
            <a:ext cx="5400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120px-Subfalcine-herniation-001"/>
          <p:cNvPicPr/>
          <p:nvPr/>
        </p:nvPicPr>
        <p:blipFill>
          <a:blip r:embed="rId2"/>
          <a:stretch/>
        </p:blipFill>
        <p:spPr>
          <a:xfrm>
            <a:off x="1692360" y="981000"/>
            <a:ext cx="5472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Brain hernia"/>
          <p:cNvPicPr/>
          <p:nvPr/>
        </p:nvPicPr>
        <p:blipFill>
          <a:blip r:embed="rId2"/>
          <a:stretch/>
        </p:blipFill>
        <p:spPr>
          <a:xfrm>
            <a:off x="1547640" y="1341360"/>
            <a:ext cx="62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same time resuscitation, data collection, examination of the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ist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duration of loss of consciou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uration of post-traumatic anterograde amne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ause of inj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present headaches and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1E84-2A3E-4DCD-9B7C-1C7FDD25D15C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97CE-B0C5-4B08-8453-8DB0B58F1F9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ise your head 15 to 30 deg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ct hypoxia - endotracheal intub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otension-Nacl, Ringer, blood transf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t Mannitol 20% every 2-6 h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on of stero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dation and anticonvuls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hylaxis of deep vein thrombosis and stomach ul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on of antibio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periods of ob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DEB5-8550-40B8-9C20-6619C0C49CA3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5E2B-7234-42A8-B070-26B898AA075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Glasgow Coma Scale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7120" y="1356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Total score is used for serial assessment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gno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YES O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ain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verbal stimuli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ntaneously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ST VERBAL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espon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rehensible sound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ppropriate word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oriented and converses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ented and converses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ST MOTOR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espon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 (decerebrate rigidity)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exion abnormal (decorticate rigidity)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exion withdrawa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izes pain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eys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otal 3–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0498-9F55-43A7-9B35-350A42ADB949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78CA-CFAE-4849-901E-1AD6081E714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5" descr=""/>
          <p:cNvPicPr/>
          <p:nvPr/>
        </p:nvPicPr>
        <p:blipFill>
          <a:blip r:embed="rId1"/>
          <a:stretch/>
        </p:blipFill>
        <p:spPr>
          <a:xfrm>
            <a:off x="665280" y="689040"/>
            <a:ext cx="8229600" cy="5248080"/>
          </a:xfrm>
          <a:prstGeom prst="rect">
            <a:avLst/>
          </a:prstGeom>
          <a:ln w="0">
            <a:noFill/>
          </a:ln>
        </p:spPr>
      </p:pic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ABC0-0A53-4B52-AB30-83C22BD64056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8113-0760-4518-9BB2-04D4169A979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Content Placeholder 5" descr=""/>
          <p:cNvPicPr/>
          <p:nvPr/>
        </p:nvPicPr>
        <p:blipFill>
          <a:blip r:embed="rId1"/>
          <a:stretch/>
        </p:blipFill>
        <p:spPr>
          <a:xfrm>
            <a:off x="-298440" y="311040"/>
            <a:ext cx="9448920" cy="5791320"/>
          </a:xfrm>
          <a:prstGeom prst="rect">
            <a:avLst/>
          </a:prstGeom>
          <a:ln w="0">
            <a:noFill/>
          </a:ln>
        </p:spPr>
      </p:pic>
      <p:sp>
        <p:nvSpPr>
          <p:cNvPr id="2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84C2-B5F8-4F54-BDB2-8787DF2F2EBE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D11D-F15F-4121-B6EB-FF82030FC97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QUELAE OF HEAD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800240" y="1981080"/>
            <a:ext cx="4343400" cy="4114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maj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post-traumatic dement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post-traumatic epilep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Korsakoff's syndr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character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86E1-59EF-4D1F-8A8C-AE12F6054457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AE81-0796-4EA6-94AD-62F0FD11EF8A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2057400"/>
            <a:ext cx="4267080" cy="2494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min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-traumatic headac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rosis-posttraumat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jective post-traumatic syndr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sequences of craniocerebral inju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at Embolism With fractures of large bones, there may be,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4 to 72 h, an acute onset of pulmonary symptoms (dyspnea and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pnea) followed by coma with or without focal signs or seizur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equence is due to systemic fat embolism, first of the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ngs and then of the br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5F52-4CDD-4D1D-A31D-554791FDCAEE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AE04-62D4-4181-A27B-210F3973E15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sttraumatic Epileps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pilepsy is the most common delayed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quela of craniocerebral trauma, with an overall incidence of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percent in patients with closed head injuries and 50 percent in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se who had sustained a compound skull fra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sis is nearly always a contusion or laceration of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rtex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6478-0F9A-41DB-8FC1-B55410BB9CEE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F44F-6F30-4241-84D1-F7F0317390A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57120" y="5357880"/>
            <a:ext cx="4191120" cy="1381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epileps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% within the first week-good progno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724280" y="5143680"/>
            <a:ext cx="4419720" cy="1572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-onset epileps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-6 months after the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 type: focal or general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reatment and Prophylaxis Usually the seizures can be controlled</a:t>
            </a:r>
            <a:r>
              <a:rPr b="1" i="1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a single anticonvulsant med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e of anticonvulsant drugs to prevent the first seizure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bsequent epilepsy has its proponents and oppon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F059-3D76-49D1-8D5C-65DCF2D6F0C4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2DA8-987D-4026-9AB4-2D3045E544B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-traumatic neur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ead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i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otionally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ntion deficit, fatigue, intolera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xiety, 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asts months and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ly in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E1FF-DC00-4B45-B6E5-B4CE27848F49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F939-5C6F-4128-9B43-7357A46EB27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Calibri"/>
              </a:rPr>
              <a:t>Clasiffication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trauma according to localization of the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5" descr=""/>
          <p:cNvPicPr/>
          <p:nvPr/>
        </p:nvPicPr>
        <p:blipFill>
          <a:blip r:embed="rId1"/>
          <a:stretch/>
        </p:blipFill>
        <p:spPr>
          <a:xfrm>
            <a:off x="669960" y="1420920"/>
            <a:ext cx="7808760" cy="4681440"/>
          </a:xfrm>
          <a:prstGeom prst="rect">
            <a:avLst/>
          </a:prstGeom>
          <a:ln w="0">
            <a:noFill/>
          </a:ln>
        </p:spPr>
      </p:pic>
      <p:sp>
        <p:nvSpPr>
          <p:cNvPr id="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D3C9-E926-42EA-8E99-ADD85A6611DC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8C25-E473-4EB8-8117-34708126EEC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the place of mechanical force - a sudden increase in pressure = coup lesion at the diametrically opposite end - negative pressure = contracoup le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ANd9GcReepkSznk4MSN6GRhP9EV8SIimKUyd2mmUNrb7BQukM5MhPEHZmg"/>
          <p:cNvPicPr/>
          <p:nvPr/>
        </p:nvPicPr>
        <p:blipFill>
          <a:blip r:embed="rId2"/>
          <a:stretch/>
        </p:blipFill>
        <p:spPr>
          <a:xfrm>
            <a:off x="1763640" y="2205000"/>
            <a:ext cx="4392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7" descr=""/>
          <p:cNvPicPr/>
          <p:nvPr/>
        </p:nvPicPr>
        <p:blipFill>
          <a:blip r:embed="rId1"/>
          <a:stretch/>
        </p:blipFill>
        <p:spPr>
          <a:xfrm>
            <a:off x="665280" y="890640"/>
            <a:ext cx="7819920" cy="5241960"/>
          </a:xfrm>
          <a:prstGeom prst="rect">
            <a:avLst/>
          </a:prstGeom>
          <a:ln w="0">
            <a:noFill/>
          </a:ln>
        </p:spPr>
      </p:pic>
      <p:sp>
        <p:nvSpPr>
          <p:cNvPr id="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9A71-924D-4A6D-8C3D-557DCA9C2FAD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137C-945E-4DF6-9F02-34A334F175C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ull fra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ar 80% temporal and parietal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pressive 20%, usually open, with bone pressing into brain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inutive, crushed into numerous frag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31E3-DB5F-4144-A231-FC763DD179A0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CB89-CBC5-4236-8787-0E84A66DDAE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87480" y="46080"/>
            <a:ext cx="15238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ull base fracture fracture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44280"/>
            <a:ext cx="34545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Anterior skull bas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anosmia, rhinorrhea, glasses sign, "raccoon eyes"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ubconjunctival haemorrhag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racture of the petrous temporal bone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 bleeding from the ear, otorrhea, hearing loss and hematoma above the mastoid part (24-48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racture of the Turkish saddl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damage to the pituitary gland-diabetes insipidus, impotence, amenorrhe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3141-C7B8-47AE-B215-34FEEBC037CC}" type="datetime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1A54-AEAA-4336-A8ED-C2690047119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crane_med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2276640"/>
            <a:ext cx="3888000" cy="410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ANd9GcTR-z9_Pt3jmv1y9SVa4__ZHE1mSBbpVucTJ3O2vqfQOVJDXhKOaQ"/>
          <p:cNvPicPr/>
          <p:nvPr/>
        </p:nvPicPr>
        <p:blipFill>
          <a:blip r:embed="rId3"/>
          <a:stretch/>
        </p:blipFill>
        <p:spPr>
          <a:xfrm>
            <a:off x="4429080" y="1785960"/>
            <a:ext cx="11430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ki</dc:creator>
  <dc:description/>
  <dc:language>en-US</dc:language>
  <cp:lastModifiedBy>Korisnik</cp:lastModifiedBy>
  <dcterms:modified xsi:type="dcterms:W3CDTF">2024-02-22T06:19:04Z</dcterms:modified>
  <cp:revision>140</cp:revision>
  <dc:subject/>
  <dc:title>PowerPoint Presentation</dc:title>
</cp:coreProperties>
</file>